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33.png" ContentType="image/png"/>
  <Override PartName="/ppt/media/image37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7E1A-751D-4A77-BD5B-792B4555ABF8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EB8D-EF1F-4DE4-9A4D-419418D52EC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3A6E-CC3D-4A07-91F3-BB6F4EE1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DA74-EE77-4EFC-9433-83957E5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C88-B5B4-4F0B-A0C3-51FE7474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2B2-4804-412A-8DFB-AAC2AECE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BA4-1EF4-4EFE-8617-9A95697C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B1FB-027F-4CCB-B1FB-BBA99846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E481-5ACF-4F47-8831-093B1418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F246-DB62-45F4-AEFB-A7CA838E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AA2C-08B6-4143-BD5C-9C199977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3EDC-AD0F-4699-95DD-743AD997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537E-8482-4807-BA91-A63615B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A48B-FD52-4BE0-90BB-A9C308C7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994D-083E-4190-A919-F17CEC2A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C799-3888-4567-BFC1-75B42D7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CE67-7246-425C-9E0E-03DA9139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ACBA-09FB-49CF-A315-618DF93A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F0C-AF54-488A-B1A2-8AE9E466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112-6F86-4933-90E1-2BF4E078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F95-270B-4E85-BC07-BC5CEAAB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D8D-035A-4350-AC2D-5838EC68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1FB-2DF9-41C3-BC7E-ED5A0439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9FE-F553-47E6-B5B1-7442B3BB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B4E1-2A82-4DD6-91C2-F03DA4FD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F14-A283-4E29-9F34-C169DB39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FF9-E18B-40A6-BDA7-C87911A8BC9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9B37-6961-4C3F-84C2-A65581BC31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iE1ZfnzNLLAhVHRhQKHZHcAP0QjRwIBw&amp;url=http%3A%2F%2Fecoc.poieinkaiprattein.org%2Feuropean-capital-of-culture%2Fgenoa-2004%2F&amp;psig=AFQjCNFyxZbV1Yz275_6B2hZ9xQd1vWU9w&amp;ust=145867788978606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s://www.google.rs/url?sa=i&amp;rct=j&amp;q=&amp;esrc=s&amp;source=images&amp;cd=&amp;cad=rja&amp;uact=8&amp;ved=0ahUKEwiA1fOxzdLLAhUGOhQKHS0OAPIQjRwIBw&amp;url=https%3A%2F%2Fwww.pinterest.com%2Fpin%2F241294492508697894%2F&amp;psig=AFQjCNE407WiDvoQyAJc4BsCNMvTgVMLBQ&amp;ust=1458678035443488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j-jcDvzdLLAhUDcRQKHZwDDNMQjRwIBw&amp;url=http%3A%2F%2Fwww.rabillon.com%2Fgaleriesnew%2Fsceno%2Fforet%2F&amp;psig=AFQjCNE407WiDvoQyAJc4BsCNMvTgVMLBQ&amp;ust=1458678035443488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uact=8&amp;ved=0ahUKEwjZktOqztLLAhVDtBQKHXh0BMAQjRwIBw&amp;url=http%3A%2F%2Fbf.larenaissance.free.fr%2Fhtm%2Flille2004.htm&amp;psig=AFQjCNE407WiDvoQyAJc4BsCNMvTgVMLBQ&amp;ust=1458678035443488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google.rs/url?sa=i&amp;rct=j&amp;q=&amp;esrc=s&amp;source=images&amp;cd=&amp;cad=rja&amp;uact=8&amp;ved=0ahUKEwiUmsGsz9LLAhVLvhQKHdqVDZ0QjRwIBw&amp;url=http%3A%2F%2Fwww.caue-observatoire.fr%2Fouvrage%2Fmaison-folie-de-wazemmes%2F&amp;psig=AFQjCNGe-JxSS_wZXroZeK9Hc7k_mEwVtA&amp;ust=1458678495437049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frm=1&amp;source=images&amp;cd=&amp;cad=rja&amp;docid=BhZTrJx6M0r7iM&amp;tbnid=VVCICgiHOnnupM:&amp;ved=0CAUQjRw&amp;url=http%3A%2F%2Feventsworldwide.com%2FGraz.htm&amp;ei=3gZSUdCqLoiZtAbq9YGoBQ&amp;bvm=bv.44342787,d.bGE&amp;psig=AFQjCNHt85wVl0bhcBS2hYQrSz7wC3-Uqw&amp;ust=1364415837850972" TargetMode="External"/><Relationship Id="rId2" Type="http://schemas.openxmlformats.org/officeDocument/2006/relationships/image" Target="../media/image18.png"/><Relationship Id="rId3" Type="http://schemas.openxmlformats.org/officeDocument/2006/relationships/hyperlink" Target="http://www.google.rs/url?sa=i&amp;rct=j&amp;q=&amp;esrc=s&amp;frm=1&amp;source=images&amp;cd=&amp;cad=rja&amp;docid=MltN0hY7EXd5xM&amp;tbnid=n3BlrSIe2kkDiM:&amp;ved=0CAUQjRw&amp;url=http%3A%2F%2Fwww.flickr.com%2Fphotos%2F30443610%40N06%2F6944208270%2F&amp;ei=bwZSUYzbLNDdsgbNr4HgCw&amp;bvm=bv.44342787,d.bGE&amp;psig=AFQjCNHt85wVl0bhcBS2hYQrSz7wC3-Uqw&amp;ust=1364415837850972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frm=1&amp;source=images&amp;cd=&amp;cad=rja&amp;docid=W4sNLXEaWIN-PM&amp;tbnid=WpTfRU8dK4DgTM:&amp;ved=0CAUQjRw&amp;url=http%3A%2F%2Fwww.ibocc.org%2Fnews.php%3Fref%3D64&amp;ei=qPpRUY_PHoiytAaq-YHQBA&amp;bvm=bv.44342787,d.bGE&amp;psig=AFQjCNFS-ZV0B1wdKEMZDWu5qc79wJy7Rw&amp;ust=1364413459773695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google.rs/url?sa=i&amp;rct=j&amp;q=&amp;esrc=s&amp;source=images&amp;cd=&amp;cad=rja&amp;docid=Ec_Yl6WTQSIs6M&amp;tbnid=GyA3K30wwgaSPM:&amp;ved=0CAUQjRw&amp;url=http%3A%2F%2Fchildrenandreporters.blogspot.com%2F2011_01_01_archive.html&amp;ei=Bx6qUuqnEdHEswahjIHACg&amp;psig=AFQjCNHFwaXWvKfYUmBRe-dp9NbOMkfMkg&amp;ust=1386966841078587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docid=f9d0uWQXXTIzSM&amp;tbnid=KgULquhGsFJ4uM:&amp;ved=0CAUQjRw&amp;url=http%3A%2F%2Fwww.kulturparlament.com%2Fsessions%2F2011-pecs%2F&amp;ei=zUeqUvKkDMGKtAaxlYDIBg&amp;psig=AFQjCNEwfDIP7Tmdu0kTb8h3cn59SQxJuQ&amp;ust=1386977500509653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docid=BhbQW1xujWMGQM&amp;tbnid=KHC_mfk-SfgmLM:&amp;ved=0CAUQjRw&amp;url=http%3A%2F%2Fcoldcoldercoldest.blogspot.com%2F2011%2F01%2Ftonight-in-turku.html&amp;ei=j9KpUoyWFMrNswbjl4HQBg&amp;psig=AFQjCNEzc65XXV-GxGqgL44CwWKZQzh6lw&amp;ust=1386947479740345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google.rs/url?sa=i&amp;rct=j&amp;q=&amp;esrc=s&amp;source=images&amp;cd=&amp;cad=rja&amp;docid=n9oL7nz4jeFkLM&amp;tbnid=BpdzvPcwCmWJfM:&amp;ved=0CAUQjRw&amp;url=http%3A%2F%2Fmarkmurphy.info%2Fprojects%2Fturku%2Findex.html&amp;ei=KtOpUt_6MceQswb98YGwDw&amp;psig=AFQjCNEzc65XXV-GxGqgL44CwWKZQzh6lw&amp;ust=1386947479740345" TargetMode="External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www.google.rs/url?sa=i&amp;rct=j&amp;q=&amp;esrc=s&amp;source=images&amp;cd=&amp;cad=rja&amp;docid=ZrdBpf0bP9_k1M&amp;tbnid=YPq0yFYaWpzZtM:&amp;ved=0CAUQjRw&amp;url=http%3A%2F%2Fwww.hartela.fi%2Fhartela_projects%2Ftoimitila_ajankohtaista.jsp%3Ftargetid%3D1041&amp;ei=ldipUqKCBsentAbsnYGYCQ&amp;psig=AFQjCNHMRLcyFxVPwfhEaHZF5Kzyga4f0g&amp;ust=1386949103659208" TargetMode="External"/><Relationship Id="rId3" Type="http://schemas.openxmlformats.org/officeDocument/2006/relationships/image" Target="../media/image34.jpeg"/><Relationship Id="rId4" Type="http://schemas.openxmlformats.org/officeDocument/2006/relationships/hyperlink" Target="http://www.google.rs/url?sa=i&amp;rct=j&amp;q=&amp;esrc=s&amp;source=images&amp;cd=&amp;cad=rja&amp;docid=h-nUFfXg65FMjM&amp;tbnid=KMWK7lKNT-i-TM:&amp;ved=0CAUQjRw&amp;url=http%3A%2F%2Fwww.logomo.fi%2Fen%2Finfo%2Fpremises%2Fparty-and-concert-facilities%2F&amp;ei=xNipUoBsiMizBsCjgMAC&amp;psig=AFQjCNHMRLcyFxVPwfhEaHZF5Kzyga4f0g&amp;ust=1386949103659208" TargetMode="External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maribor2012.info/" TargetMode="External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hyperlink" Target="http://www.eventim.cz/" TargetMode="External"/><Relationship Id="rId3" Type="http://schemas.openxmlformats.org/officeDocument/2006/relationships/hyperlink" Target="http://www.eventim.cz/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rs/url?sa=i&amp;rct=j&amp;q=&amp;esrc=s&amp;source=images&amp;cd=&amp;cad=rja&amp;docid=DBbgBTUWgvha_M&amp;tbnid=MVeRg6mKaUZhGM:&amp;ved=0CAUQjRw&amp;url=http%3A%2F%2Fwww.politika.rs%2Frubrike%2FKulturni-dodatak%2FPoslednja-grcka-boginja.lt.html&amp;ei=3yoOU7KnEMantAapt4DYBg&amp;bvm=bv.61965928,d.Yms&amp;psig=AFQjCNEP8aQCT0fp9Fp4zvn3KcPuAsKGeA&amp;ust=1393523778483724" TargetMode="External"/><Relationship Id="rId2" Type="http://schemas.openxmlformats.org/officeDocument/2006/relationships/hyperlink" Target="http://www.google.rs/url?sa=i&amp;rct=j&amp;q=&amp;esrc=s&amp;source=images&amp;cd=&amp;cad=rja&amp;docid=DBbgBTUWgvha_M&amp;tbnid=MVeRg6mKaUZhGM:&amp;ved=0CAUQjRw&amp;url=http%3A%2F%2Fwww.politika.rs%2Frubrike%2FKulturni-dodatak%2FPoslednja-grcka-boginja.lt.html&amp;ei=3yoOU7KnEMantAapt4DYBg&amp;bvm=bv.61965928,d.Yms&amp;psig=AFQjCNEP8aQCT0fp9Fp4zvn3KcPuAsKGeA&amp;ust=1393523778483724" TargetMode="External"/><Relationship Id="rId3" Type="http://schemas.openxmlformats.org/officeDocument/2006/relationships/hyperlink" Target="http://www.google.rs/url?sa=i&amp;rct=j&amp;q=&amp;esrc=s&amp;source=images&amp;cd=&amp;cad=rja&amp;docid=DBbgBTUWgvha_M&amp;tbnid=MVeRg6mKaUZhGM:&amp;ved=0CAUQjRw&amp;url=http%3A%2F%2Fwww.politika.rs%2Frubrike%2FKulturni-dodatak%2FPoslednja-grcka-boginja.lt.html&amp;ei=3yoOU7KnEMantAapt4DYBg&amp;bvm=bv.61965928,d.Yms&amp;psig=AFQjCNEP8aQCT0fp9Fp4zvn3KcPuAsKGeA&amp;ust=1393523778483724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google.rs/url?sa=i&amp;rct=j&amp;q=&amp;esrc=s&amp;source=images&amp;cd=&amp;cad=rja&amp;docid=nVRERKYl8uuM3M&amp;tbnid=QEBWoikR2hzk7M:&amp;ved=0CAUQjRw&amp;url=http%3A%2F%2Fsr.wikipedia.org%2Fwiki%2F%25D0%259C%25D0%25B5%25D0%25BB%25D0%25B8%25D0%25BD%25D0%25B0_%25D0%259C%25D0%25B5%25D1%2580%25D0%25BA%25D1%2583%25D1%2580%25D0%25B8&amp;ei=OSsOU-DkOcrrswau8oC4Aw&amp;bvm=bv.61965928,d.Yms&amp;psig=AFQjCNE42WnqET-MDmc34c-5MgHA6-b_nQ&amp;ust=1393523890898219" TargetMode="External"/><Relationship Id="rId6" Type="http://schemas.openxmlformats.org/officeDocument/2006/relationships/hyperlink" Target="http://upload.wikimedia.org/wikipedia/commons/e/ee/Melina_Mercouri.JPG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mons2015.eu/en/programme/today" TargetMode="External"/><Relationship Id="rId2" Type="http://schemas.openxmlformats.org/officeDocument/2006/relationships/hyperlink" Target="http://www.mons2015.eu/en/programme/tomorrow" TargetMode="External"/><Relationship Id="rId3" Type="http://schemas.openxmlformats.org/officeDocument/2006/relationships/hyperlink" Target="http://www.mons2015.eu/en/programme/thisweekend" TargetMode="External"/><Relationship Id="rId4" Type="http://schemas.openxmlformats.org/officeDocument/2006/relationships/hyperlink" Target="http://www.mons2015.eu/en/programme/thisweek" TargetMode="External"/><Relationship Id="rId5" Type="http://schemas.openxmlformats.org/officeDocument/2006/relationships/hyperlink" Target="http://www.mons2015.eu/en/programme/month" TargetMode="External"/><Relationship Id="rId6" Type="http://schemas.openxmlformats.org/officeDocument/2006/relationships/hyperlink" Target="http://www.mons2015.eu/en/map" TargetMode="External"/><Relationship Id="rId7" Type="http://schemas.openxmlformats.org/officeDocument/2006/relationships/hyperlink" Target="http://www.mons2015.eu/en/exhibitions-museums" TargetMode="External"/><Relationship Id="rId8" Type="http://schemas.openxmlformats.org/officeDocument/2006/relationships/hyperlink" Target="http://www.mons2015.eu/en/art-city-and-trails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jungletribe.com/putovanja/wp-content/uploads/2011/07/brussels_places.jpg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google.rs/url?sa=i&amp;rct=j&amp;q=&amp;esrc=s&amp;source=images&amp;cd=&amp;cad=rja&amp;docid=rpK3zcDS8zErvM&amp;tbnid=q8DTs9Vgw6pvuM:&amp;ved=0CAUQjRw&amp;url=http%3A%2F%2Flt.wikipedia.org%2Fwiki%2FSantjago_de_Kompostela&amp;ei=96ipUq_FHMnNswa494CoBQ&amp;psig=AFQjCNHNT-Fdkze1ebBDRjOz39wWK1Jh6A&amp;ust=1386936934999737" TargetMode="External"/><Relationship Id="rId5" Type="http://schemas.openxmlformats.org/officeDocument/2006/relationships/hyperlink" Target="http://lt.wikipedia.org/wiki/Vaizdas:Santiago.de.Compostela.Catedral.Noche.jpg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2.bp.blogspot.com/-xFg0beKgA_I/TZ1N-nfks5I/AAAAAAAAABY/dYrcov7Rzbo/s1600/thumbs-up-and-down-buttons_full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8164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Times New Roman"/>
              </a:rPr>
              <a:t>EVROPSK</a:t>
            </a:r>
            <a:r>
              <a:rPr b="1" lang="sr-Latn-CS" sz="5000" spc="-1" strike="noStrike">
                <a:solidFill>
                  <a:srgbClr val="006633"/>
                </a:solidFill>
                <a:latin typeface="Times New Roman"/>
              </a:rPr>
              <a:t>A </a:t>
            </a:r>
            <a:r>
              <a:rPr b="1" lang="en-US" sz="5000" spc="-1" strike="noStrike">
                <a:solidFill>
                  <a:srgbClr val="006633"/>
                </a:solidFill>
                <a:latin typeface="Times New Roman"/>
              </a:rPr>
              <a:t>PRESTONIC</a:t>
            </a:r>
            <a:r>
              <a:rPr b="1" lang="sr-Latn-CS" sz="5000" spc="-1" strike="noStrike">
                <a:solidFill>
                  <a:srgbClr val="006633"/>
                </a:solidFill>
                <a:latin typeface="Times New Roman"/>
              </a:rPr>
              <a:t>A</a:t>
            </a:r>
            <a:r>
              <a:rPr b="1" lang="en-US" sz="5000" spc="-1" strike="noStrike">
                <a:solidFill>
                  <a:srgbClr val="006633"/>
                </a:solidFill>
                <a:latin typeface="Times New Roman"/>
              </a:rPr>
              <a:t> KULTURE</a:t>
            </a:r>
            <a:br>
              <a:rPr sz="5000"/>
            </a:br>
            <a:r>
              <a:rPr b="1" lang="sr-Latn-CS" sz="1800" spc="-1" strike="noStrike">
                <a:solidFill>
                  <a:srgbClr val="006633"/>
                </a:solidFill>
                <a:latin typeface="Times New Roman"/>
              </a:rPr>
              <a:t>dr Tatjana Pivac</a:t>
            </a:r>
            <a:br>
              <a:rPr sz="1800"/>
            </a:br>
            <a:r>
              <a:rPr b="1" lang="sr-Latn-CS" sz="1800" spc="-1" strike="noStrike">
                <a:solidFill>
                  <a:srgbClr val="006633"/>
                </a:solidFill>
                <a:latin typeface="Times New Roman"/>
              </a:rPr>
              <a:t>Departman za geografiju, turizam i hotelijerstvo, Novi Sad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il_fi" descr="ecoc_logo_EN"/>
          <p:cNvPicPr/>
          <p:nvPr/>
        </p:nvPicPr>
        <p:blipFill>
          <a:blip r:embed="rId1"/>
          <a:stretch/>
        </p:blipFill>
        <p:spPr>
          <a:xfrm>
            <a:off x="3708360" y="5076720"/>
            <a:ext cx="5329440" cy="17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http://ec.europa.eu/culture/our-programmes-and-actions/img/ecoc.png"/>
          <p:cNvPicPr/>
          <p:nvPr/>
        </p:nvPicPr>
        <p:blipFill>
          <a:blip r:embed="rId2"/>
          <a:stretch/>
        </p:blipFill>
        <p:spPr>
          <a:xfrm>
            <a:off x="250920" y="5010120"/>
            <a:ext cx="3000240" cy="18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€ ulož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ati gradu 8-10 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Najistaknutiji (najučestaliji) programi EPK (ECOC)-prema važnosti: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4920" y="1844280"/>
            <a:ext cx="7921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zoriš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zuelne umet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z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ične parade ili događaji na otvoren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leđe i istori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hitektu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23640" y="126828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NACIONALIZ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INTERNACIONALIZ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Program-teme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e –prepoznatljivost događa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anbul (2010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 izgrađena oko 4 elementa koja imaju posebno značenje za Istanbu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mlj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odnosi se na tradiciju i transformcij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zduh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nebo je poslalo - zajedničko učestvovanje domaćih i stranih muziča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grad i more - fokusira se na mnoštvo aktivnosti na Bosforu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žar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kovanje budućnosti - fokusira se na moderne umetnosti i događaje za veliki broj stanovnik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1128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pul je imao teme za svaku godinu od 2003. do 2010.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: Proslava učenja </a:t>
            </a:r>
            <a:br>
              <a:rPr sz="3000"/>
            </a:b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: Vera jednog grada </a:t>
            </a:r>
            <a:br>
              <a:rPr sz="3000"/>
            </a:b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: Liverpul more </a:t>
            </a:r>
            <a:br>
              <a:rPr sz="3000"/>
            </a:b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: performans Liverpula </a:t>
            </a:r>
            <a:br>
              <a:rPr sz="3000"/>
            </a:b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: Liverpulovih-800 godina </a:t>
            </a:r>
            <a:br>
              <a:rPr sz="3000"/>
            </a:b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: Evropska prestonica kulture </a:t>
            </a:r>
            <a:br>
              <a:rPr sz="3000"/>
            </a:b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: Godina životne sred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: Godina inovaci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2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1/3 gradova koji su bili EPK su imali samo jednu centralnu temu: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2204640"/>
            <a:ext cx="83739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etnost i kreativnost (Avinjon, 2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tovanje (Đenova, 2004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ovi u budućnosti (Porto, 200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a i priroda (Rejkjavik, 200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 svih kultura (Luksemburg, 199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U polovini EPK tema se vezivala za sam gr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sel (2000) imao je glavnu temu Grad sa 6 pod tema (proslava grada, Re-imag(in)ing the 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g (2000) imao je tri glavne teme: priča o gradu, grad otvorenih vrata i grad u kome se ž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Nekoliko EPK je uzelo teme po sezon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gen (2000) je koristio </a:t>
            </a:r>
            <a:r>
              <a:rPr b="0" lang="sr-Latn-CS" sz="2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proleć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novi; </a:t>
            </a:r>
            <a:r>
              <a:rPr b="0" lang="sr-Latn-CS" sz="2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let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utanje; </a:t>
            </a:r>
            <a:r>
              <a:rPr b="0" lang="sr-Latn-CS" sz="2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jes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os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enhagen (1996) je koristio nekoliko tema po sezoni: </a:t>
            </a:r>
            <a:r>
              <a:rPr b="0" lang="sr-Latn-CS" sz="2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proleć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ključivalo je istorijski grad i 20. vek; </a:t>
            </a:r>
            <a:r>
              <a:rPr b="0" lang="sr-Latn-CS" sz="2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let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uključivalo je zeleni grad; </a:t>
            </a:r>
            <a:r>
              <a:rPr b="0" lang="sr-Latn-CS" sz="2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jese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udućnost i nova Evro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000" spc="-1" strike="noStrike">
                <a:solidFill>
                  <a:srgbClr val="3b812f"/>
                </a:solidFill>
                <a:latin typeface="Times New Roman"/>
                <a:ea typeface="Times New Roman"/>
              </a:rPr>
              <a:t>Kod nekih EPK program je struktuiran oko ključnih reč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akov (2000) - misli, duhovnost, kreativ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onja (2000) - komun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sinki (2000) - inovacije, internacionalizacija, stanovništvo, investi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5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ređeni događaji su usmereni na pojedine zvezde-izvođače/ umetni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na - korišćena kao glavni marketinški ala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sent van Gog (Amsterdam, 199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di (Barselona, 200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adeus Mocart (Salzburg i Beč, 2006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lsi -Pol Makartni i Ringo Star (Liverpul, 2008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403848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ovi u budućnosti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32360" y="3645000"/>
            <a:ext cx="40384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’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terdam je mnoštvo gradova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Čuvar mesta za podnožj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l_fi" descr="porto2001_1_h"/>
          <p:cNvPicPr/>
          <p:nvPr/>
        </p:nvPicPr>
        <p:blipFill>
          <a:blip r:embed="rId1"/>
          <a:stretch/>
        </p:blipFill>
        <p:spPr>
          <a:xfrm>
            <a:off x="395280" y="3068640"/>
            <a:ext cx="3619440" cy="2819520"/>
          </a:xfrm>
          <a:prstGeom prst="rect">
            <a:avLst/>
          </a:prstGeom>
          <a:ln w="0">
            <a:noFill/>
          </a:ln>
        </p:spPr>
      </p:pic>
      <p:pic>
        <p:nvPicPr>
          <p:cNvPr id="149" name="il_fi" descr="42_8Lg"/>
          <p:cNvPicPr/>
          <p:nvPr/>
        </p:nvPicPr>
        <p:blipFill>
          <a:blip r:embed="rId2"/>
          <a:stretch/>
        </p:blipFill>
        <p:spPr>
          <a:xfrm>
            <a:off x="5651640" y="333360"/>
            <a:ext cx="239076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Čuvar mesta za podnožj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http://ecoc.poieinkaiprattein.org/uploads/images/Genoa/Genova%202004%20Log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87400" y="1209600"/>
            <a:ext cx="2316240" cy="4506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https://s-media-cache-ak0.pinimg.com/736x/1e/41/b4/1e41b455f9959735297feebaecdf54e7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81360" y="2637000"/>
            <a:ext cx="5062680" cy="143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692280"/>
            <a:ext cx="77868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</a:rPr>
              <a:t>Značaj projekta ECoC/EP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integracija kulture i turiz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adaptacija postojećih kulturnih ustanov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velika promocija grad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Čuvar mesta za podnožje 1"/>
          <p:cNvSpPr/>
          <p:nvPr/>
        </p:nvSpPr>
        <p:spPr>
          <a:xfrm>
            <a:off x="3132000" y="623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www.rabillon.com/galeriesnew/sceno/foret/slides/lille2004-5788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49360"/>
            <a:ext cx="83041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bf.larenaissance.free.fr/images/lille2004/g358arche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089000"/>
            <a:ext cx="7426440" cy="464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www.edu.upmc.fr/medecine/edppntic/Sites_2007/CARPENTIER/PROJET%20Site%20Internet/Visite/10Wazemmes%20Moulins/Wazemmes/100_2303.JPG"/>
          <p:cNvPicPr/>
          <p:nvPr/>
        </p:nvPicPr>
        <p:blipFill>
          <a:blip r:embed="rId1"/>
          <a:stretch/>
        </p:blipFill>
        <p:spPr>
          <a:xfrm>
            <a:off x="250920" y="333360"/>
            <a:ext cx="4705200" cy="352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www.caue-observatoire.fr/wp-content/uploads/2015/12/59_36e9fe35-6ce6-438c-b1fe-3f1ab205baf1_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03520" y="3429000"/>
            <a:ext cx="609588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4360" y="476280"/>
          <a:ext cx="7488000" cy="5329080"/>
        </p:xfrm>
        <a:graphic>
          <a:graphicData uri="http://schemas.openxmlformats.org/drawingml/2006/table">
            <a:tbl>
              <a:tblPr/>
              <a:tblGrid>
                <a:gridCol w="1879560"/>
                <a:gridCol w="1190520"/>
                <a:gridCol w="1190520"/>
                <a:gridCol w="1613160"/>
                <a:gridCol w="1614240"/>
              </a:tblGrid>
              <a:tr h="1298520"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istika događa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ter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Đeno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762120"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j događ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1969920"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troš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miliona ev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miliona ev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miliona ev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miliona ev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1298520"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kupan broj posetil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46.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06.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68400" rIns="68400" tIns="936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2707920"/>
            <a:ext cx="403848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’’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Grac-grad za svakoga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unsthaus Graz (popularno nazvan "A friendly alien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eštačko ostrvo na M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http://eventsworldwide.com/graz03_logo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655560"/>
            <a:ext cx="4174920" cy="158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http://farm8.staticflickr.com/7128/6944208270_705731771c_z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4920" y="189000"/>
            <a:ext cx="4154400" cy="302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800px-Graz_Kunsthaus_vom_Schlossberg_20061126"/>
          <p:cNvPicPr/>
          <p:nvPr/>
        </p:nvPicPr>
        <p:blipFill>
          <a:blip r:embed="rId5"/>
          <a:stretch/>
        </p:blipFill>
        <p:spPr>
          <a:xfrm>
            <a:off x="4932360" y="3645000"/>
            <a:ext cx="3672000" cy="2367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Čuvar mesta za podnožje 4"/>
          <p:cNvSpPr/>
          <p:nvPr/>
        </p:nvSpPr>
        <p:spPr>
          <a:xfrm>
            <a:off x="2771640" y="6308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http://www.ibocc.org/img/Liverpool-200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197000"/>
            <a:ext cx="2735280" cy="4041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DSC_0693"/>
          <p:cNvPicPr/>
          <p:nvPr/>
        </p:nvPicPr>
        <p:blipFill>
          <a:blip r:embed="rId3"/>
          <a:stretch/>
        </p:blipFill>
        <p:spPr>
          <a:xfrm>
            <a:off x="4637160" y="0"/>
            <a:ext cx="4255920" cy="2827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DSC_0793"/>
          <p:cNvPicPr/>
          <p:nvPr/>
        </p:nvPicPr>
        <p:blipFill>
          <a:blip r:embed="rId4"/>
          <a:stretch/>
        </p:blipFill>
        <p:spPr>
          <a:xfrm>
            <a:off x="4356000" y="3125880"/>
            <a:ext cx="4500720" cy="298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pecs2010_logo_crop"/>
          <p:cNvPicPr/>
          <p:nvPr/>
        </p:nvPicPr>
        <p:blipFill>
          <a:blip r:embed="rId1"/>
          <a:stretch/>
        </p:blipFill>
        <p:spPr>
          <a:xfrm>
            <a:off x="4756320" y="765000"/>
            <a:ext cx="3632040" cy="4116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://www.gotohungary.com/site/upload/2009/12/pecs_2010_e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341360"/>
            <a:ext cx="33098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PEČUJ- </a:t>
            </a:r>
            <a:r>
              <a:rPr b="1" lang="sr-Latn-CS" sz="4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„</a:t>
            </a:r>
            <a:r>
              <a:rPr b="1" lang="sr-Latn-C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grad bez granica’’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341360"/>
            <a:ext cx="4043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.000 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lašen 2006.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škov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stvo - 40%  (2007-201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ština Pečuj - 33% planiranih trošk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ali prihodi: okrug, regija, partnerski gradovi, EU Melina Merkuri nagrada, sponzori i Nacionalni Kulturni fond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Čuvar mesta za podnožj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map1"/>
          <p:cNvPicPr/>
          <p:nvPr/>
        </p:nvPicPr>
        <p:blipFill>
          <a:blip r:embed="rId1"/>
          <a:stretch/>
        </p:blipFill>
        <p:spPr>
          <a:xfrm>
            <a:off x="5148360" y="1844640"/>
            <a:ext cx="37447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1128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vni razlozi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za između razvoja grada i njegovih kulturnih aktiv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dnja 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ostalim gradovima koji su aplicirali za istu titulu i da sjedine njihove projekte kao kulturni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kteristike gr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26560" y="1125360"/>
            <a:ext cx="785988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kacija je uklјučivala pet projeka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dali Centar (koncertni i konferencijiski pros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olnaji Kulturni Kv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 “Veliki izložbeni pros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na biblioteka i informacioni c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živlјavanje javnih trgova i park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http://www.kulturparlament.com/wp-content/uploads/2011/10/pecs_front_build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221000"/>
            <a:ext cx="4986360" cy="21369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http://www.zsolnaynegyed.hu/img_upload/galeria/galeria_00050/normal/mauz5.jpg"/>
          <p:cNvPicPr/>
          <p:nvPr/>
        </p:nvPicPr>
        <p:blipFill>
          <a:blip r:embed="rId3"/>
          <a:stretch/>
        </p:blipFill>
        <p:spPr>
          <a:xfrm>
            <a:off x="250920" y="4260960"/>
            <a:ext cx="31399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000" y="47628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lј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gatstvo i raznolikost evropsk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ultur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zati lj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navlј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j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dov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olјša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j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id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očima svojih stanovnik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sticajno okruženje za kreativnog pojed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lnost kulturno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ivot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rezult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95280" y="1052640"/>
            <a:ext cx="829152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0 projekata (4 675 događa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0 volon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i sa Esenom (preko 18 projekata)  i sa Istanbulom (20) + 12 zajed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štandova u Budimpeš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a saradnja sa balkanskim zemlj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4 050  turista (rast 27.5% u odnosu na 2009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% turista iz drugih krajeva Mađars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ni turisti-porast za 71% (u odnosu na 2009.): Nemci, Austrijanci, Italijani, Rumu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http://1.bp.blogspot.com/_30dSn-ns_30/TTGGOI6lpJI/AAAAAAAACDE/gEOk7aVCEdE/s1600/turkucrow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4681440" cy="46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markmurphy.info/projects/turku/files/Turku_european_capital_of_culture-4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76600" y="3679920"/>
            <a:ext cx="4667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6633"/>
                </a:solidFill>
                <a:latin typeface="Times New Roman"/>
              </a:rPr>
              <a:t>TURKU</a:t>
            </a:r>
            <a:r>
              <a:rPr b="0" lang="sr-Latn-CS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-„Turku u vatri“ 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779640" y="1125000"/>
            <a:ext cx="46796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.000 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slovi sprovedeni 200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log je predstavlјen veću 200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 izbora na nacionalnom nivou -2005., rok mart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ed Turkua, još šest gradov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sink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h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l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vaniem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p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. godine izabralo Turku za titulu ECoC za 2011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odi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276px-Finska_mapa.jpg"/>
          <p:cNvPicPr/>
          <p:nvPr/>
        </p:nvPicPr>
        <p:blipFill>
          <a:blip r:embed="rId1"/>
          <a:stretch/>
        </p:blipFill>
        <p:spPr>
          <a:xfrm>
            <a:off x="57240" y="981000"/>
            <a:ext cx="3002040" cy="3862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tallinnalaisnuket (1)"/>
          <p:cNvPicPr/>
          <p:nvPr/>
        </p:nvPicPr>
        <p:blipFill>
          <a:blip r:embed="rId2"/>
          <a:stretch/>
        </p:blipFill>
        <p:spPr>
          <a:xfrm>
            <a:off x="7236000" y="2908440"/>
            <a:ext cx="1728720" cy="199548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95280" y="476280"/>
            <a:ext cx="8362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kturni i dugoročni projekti predviđeni aplikacijo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mogućnosti da se razvij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 kongresni i muzički cen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oviranje i proširenj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ske bibliote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nih kvart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ormacija bibliotetskih ogranak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dnevne kulturne centre u susedst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o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 obalama reke A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i i Novi Turku, fokusirajući se na transformaciju bivši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jskih delova grad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centre za kreativne industr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8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1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716000" y="549360"/>
            <a:ext cx="4248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konstrukcija Logoma (Logomo) bila je klјučni infrastrukturni projekat -značajno mesto kreativnih indust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Čuvar mesta za podnožj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www.logomo.fi/themes/logomo/images/logomo.png"/>
          <p:cNvPicPr/>
          <p:nvPr/>
        </p:nvPicPr>
        <p:blipFill>
          <a:blip r:embed="rId1"/>
          <a:stretch/>
        </p:blipFill>
        <p:spPr>
          <a:xfrm>
            <a:off x="347760" y="11160"/>
            <a:ext cx="1581120" cy="167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s://encrypted-tbn0.gstatic.com/images?q=tbn:ANd9GcQ2ism9GNPYTmiM6FyqEWohigs2Yja0f0g85xgqNXny3WaHh1tV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6080" y="1801800"/>
            <a:ext cx="4116240" cy="2746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http://www.logomo.fi/files/4013/5028/8871/sali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24360" y="4548240"/>
            <a:ext cx="512424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2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rezultat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14126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5 projekata (90 međunarodni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00 događaja (5.000 besplatni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žet = 55,6m € (2008-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o 2 miliona pos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% stanovnika Turkua je posetilo događaje EC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2920" y="134136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volontera iz Fondacije Turku 2011 na volonterskim programima; preko 13.000 volontera je doprinelo projek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% povećanja noćenja, 17% -dnevne pos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Čuvar mesta za podnožj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stanovnika Turkua - obišli više kulturnih događaja 2011. godine, nego obič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% ispitanika postalo zainteresovanije za kulturni život u gra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5 projek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4 događa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800.000 posetila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ći posetioci 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,45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ni posetioci (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,55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-Austrija, USA, Francuska, GB, Novi Zeland, Australija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gram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0.000</a:t>
            </a:r>
            <a:r>
              <a:rPr b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setilac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http://www.maribor2012.info/wp-content/themes/epk/images/logo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61880"/>
            <a:ext cx="7273800" cy="106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Pilsen.eu"/>
          <p:cNvPicPr/>
          <p:nvPr/>
        </p:nvPicPr>
        <p:blipFill>
          <a:blip r:embed="rId1"/>
          <a:stretch/>
        </p:blipFill>
        <p:spPr>
          <a:xfrm>
            <a:off x="611280" y="1665360"/>
            <a:ext cx="5002200" cy="1224000"/>
          </a:xfrm>
          <a:prstGeom prst="rect">
            <a:avLst/>
          </a:prstGeom>
          <a:ln w="0">
            <a:noFill/>
          </a:ln>
        </p:spPr>
      </p:pic>
      <p:sp>
        <p:nvSpPr>
          <p:cNvPr id="214" name="Pravougaonik 2"/>
          <p:cNvSpPr/>
          <p:nvPr/>
        </p:nvSpPr>
        <p:spPr>
          <a:xfrm>
            <a:off x="6097680" y="105264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ttp://www.plzen2015.cz/e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ravougaonik 4"/>
          <p:cNvSpPr/>
          <p:nvPr/>
        </p:nvSpPr>
        <p:spPr>
          <a:xfrm>
            <a:off x="611280" y="2924280"/>
            <a:ext cx="624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ckets for European Capital of City 2015 events are available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Point on Republic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Eventim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Pilsen ticket network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ed sales points in the region within the Information Network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y of Pilsen Information Cent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 Republic Square, Pils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klo Culture House, Pobřežní 10, Pil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3" descr="http://www.plzen2015.cz/en/sites/plzen2015.cz.en/files/kasna_velbloud_sirka_hyn_velka_1.jpg"/>
          <p:cNvPicPr/>
          <p:nvPr/>
        </p:nvPicPr>
        <p:blipFill>
          <a:blip r:embed="rId4"/>
          <a:stretch/>
        </p:blipFill>
        <p:spPr>
          <a:xfrm>
            <a:off x="239760" y="33480"/>
            <a:ext cx="5052960" cy="1571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ome"/>
          <p:cNvPicPr/>
          <p:nvPr/>
        </p:nvPicPr>
        <p:blipFill>
          <a:blip r:embed="rId1"/>
          <a:stretch/>
        </p:blipFill>
        <p:spPr>
          <a:xfrm>
            <a:off x="1547640" y="2133720"/>
            <a:ext cx="4079880" cy="1511280"/>
          </a:xfrm>
          <a:prstGeom prst="rect">
            <a:avLst/>
          </a:prstGeom>
          <a:ln w="0">
            <a:noFill/>
          </a:ln>
        </p:spPr>
      </p:pic>
      <p:sp>
        <p:nvSpPr>
          <p:cNvPr id="219" name="Pravougaonik 2"/>
          <p:cNvSpPr/>
          <p:nvPr/>
        </p:nvSpPr>
        <p:spPr>
          <a:xfrm>
            <a:off x="5303160" y="62064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ttp://www.mons2015.eu/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619308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ve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rops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ni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983. - Melina Merk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985. - 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vropski grad k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1999.- program promenio naz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>
            <a:hlinkClick r:id="rId1"/>
          </p:cNvPr>
          <p:cNvSpPr/>
          <p:nvPr/>
        </p:nvSpPr>
        <p:spPr>
          <a:xfrm>
            <a:off x="54000" y="-179064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>
            <a:hlinkClick r:id="rId2"/>
          </p:cNvPr>
          <p:cNvSpPr/>
          <p:nvPr/>
        </p:nvSpPr>
        <p:spPr>
          <a:xfrm>
            <a:off x="206280" y="-1638360"/>
            <a:ext cx="374328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9">
            <a:hlinkClick r:id="rId3"/>
          </p:cNvPr>
          <p:cNvSpPr/>
          <p:nvPr/>
        </p:nvSpPr>
        <p:spPr>
          <a:xfrm>
            <a:off x="358920" y="-1486080"/>
            <a:ext cx="374328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http://static.politika.co.rs/uploads/rubrike/171028/i/1/Melina%20Merkuri.jpg"/>
          <p:cNvPicPr/>
          <p:nvPr/>
        </p:nvPicPr>
        <p:blipFill>
          <a:blip r:embed="rId4"/>
          <a:stretch/>
        </p:blipFill>
        <p:spPr>
          <a:xfrm>
            <a:off x="5940360" y="243000"/>
            <a:ext cx="2691000" cy="26924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3">
            <a:hlinkClick r:id="rId5"/>
          </p:cNvPr>
          <p:cNvSpPr/>
          <p:nvPr/>
        </p:nvSpPr>
        <p:spPr>
          <a:xfrm>
            <a:off x="54000" y="-1494000"/>
            <a:ext cx="238140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Датотека:Melina Mercouri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00720" y="3083040"/>
            <a:ext cx="2592360" cy="3389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tatjana_pivac@yaho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ravougaonik 2"/>
          <p:cNvSpPr/>
          <p:nvPr/>
        </p:nvSpPr>
        <p:spPr>
          <a:xfrm>
            <a:off x="417600" y="436680"/>
            <a:ext cx="828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1"/>
              </a:rPr>
              <a:t>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2"/>
              </a:rPr>
              <a:t>Tomor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3"/>
              </a:rPr>
              <a:t>This week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4"/>
              </a:rPr>
              <a:t>This we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5"/>
              </a:rPr>
              <a:t>This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6"/>
              </a:rPr>
              <a:t>All the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ravougaonik 3"/>
          <p:cNvSpPr/>
          <p:nvPr/>
        </p:nvSpPr>
        <p:spPr>
          <a:xfrm>
            <a:off x="3414600" y="404640"/>
            <a:ext cx="22860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ATEG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7"/>
              </a:rPr>
              <a:t>Exhibitions &amp; muse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Times New Roman"/>
                <a:ea typeface="Times New Roman"/>
                <a:hlinkClick r:id="rId8"/>
              </a:rPr>
              <a:t>Art in the city and tr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atre, D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tivals &amp;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stivities and gastron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hion &amp;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ravougaonik 4"/>
          <p:cNvSpPr/>
          <p:nvPr/>
        </p:nvSpPr>
        <p:spPr>
          <a:xfrm>
            <a:off x="6451560" y="436680"/>
            <a:ext cx="2286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s 2015 on to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and a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nd O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stic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technology meets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s with amb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6633"/>
                </a:solidFill>
                <a:latin typeface="Times New Roman"/>
              </a:rPr>
              <a:t>Spisak Evropskih gradova/prestonica kulture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1985: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irenca, Amsterdam, Zapadni Berli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ariz, Glazkov, Dablin, Madri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ntverp,  Lisabon, Luksembur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Kopenhagen, Solun, Stokholm, Vei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2000: Avinjon, Bergen, Bolonja, Brisel, Helsinki, Krakov, Prag, Rejkjavik, Santjago de Compost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1: Porto, Roter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2: Briž, Salaman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3: Gra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4: Đenova, L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5: K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6: Pat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7: Sibiu, Luksembur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8: Liverpul, Stavanger i Sand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09: Vilnius, Li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10: Esen (Rurka oblast), Istanbul, Pé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011: Turku, T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Sofya- Atina: Avrupa’ya ufaktan giriş"/>
          <p:cNvPicPr/>
          <p:nvPr/>
        </p:nvPicPr>
        <p:blipFill>
          <a:blip r:embed="rId1"/>
          <a:stretch/>
        </p:blipFill>
        <p:spPr>
          <a:xfrm>
            <a:off x="4788000" y="907920"/>
            <a:ext cx="4089240" cy="205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http://jungletribe.com/putovanja/wp-content/uploads/2011/07/brussels_place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211640" y="3429000"/>
            <a:ext cx="2786040" cy="218916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>
            <a:hlinkClick r:id="rId4"/>
          </p:cNvPr>
          <p:cNvSpPr/>
          <p:nvPr/>
        </p:nvSpPr>
        <p:spPr>
          <a:xfrm>
            <a:off x="0" y="-1790640"/>
            <a:ext cx="24955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Santiago.de.Compostela.Catedral.Noch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159680" y="3833640"/>
            <a:ext cx="2016000" cy="3024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549360"/>
            <a:ext cx="800244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2012: Guimarães, Mari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: Marsej, Koš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:  Umeo (Švedska); Riga (Letoni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:  Mons (Belgija); Plzenj (Češ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:  San Sebastijan (Španija); Vroclav (Polj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:  Orhus (Danska), Pafos (Kipa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Narednih godin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:  Levarden (Nizozemska), Valeta (Mal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:  Matera (Italija),  Plovdiv (Bugar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: Rijeka (Hrvatska), Galway (Ir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: Novi Sad (Srbija), Temišvar (Rumunija), Elefsina (Grč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Čuvar mesta za podnožj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11280" y="475920"/>
            <a:ext cx="8137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ropski mesec kultur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90)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ml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entralne i istočne Ev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sk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estonic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e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ro (199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poli (Libija, 2014), Konstantin (Alžir, 2015), Sfaks (Tunis,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xor (Egipat, 20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čk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restonic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da (Meksiko,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ma (2014), Majagez (Porto Rico, 20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ivia (Čile, 201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ida (Meksiko, 201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EUmc"/>
          <p:cNvPicPr/>
          <p:nvPr/>
        </p:nvPicPr>
        <p:blipFill>
          <a:blip r:embed="rId1"/>
          <a:stretch/>
        </p:blipFill>
        <p:spPr>
          <a:xfrm>
            <a:off x="6659640" y="4437000"/>
            <a:ext cx="2317680" cy="2317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539280" y="764640"/>
            <a:ext cx="81471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K-najprestižniji evropski kulturni događa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phodn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stvariti određene zahte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an program manifest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rška javnih vlasti, naročito u pogledu finansir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lјučivanje socijalnih i eknomskih interesnih grupa u g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goročna kulturna, društvena i ekonomska koristi za grad, region, kao i zemlј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Čuvar mesta za podnožj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560" y="2293560"/>
            <a:ext cx="410508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omsk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h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posle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aj na turističku privredu polјoprivredu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uvanje tradicije i kulturno-istorijskog nasleđ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na imidž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će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075280" y="2138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itektonsk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gađen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ustv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iranja u pogledu razvoja i grad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ušenj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obrać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gađenje eko si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ički inter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kalno stanovniš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dekvatna strateg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Čuvar mesta za podnožj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jana_pivac@yahoo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http://2.bp.blogspot.com/-xFg0beKgA_I/TZ1N-nfks5I/AAAAAAAAABY/dYrcov7Rzbo/s320/thumbs-up-and-down-buttons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0"/>
            <a:ext cx="27003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20:21:50Z</dcterms:created>
  <dc:creator>Pivac</dc:creator>
  <dc:description/>
  <dc:language>en-US</dc:language>
  <cp:lastModifiedBy>Tatjana</cp:lastModifiedBy>
  <dcterms:modified xsi:type="dcterms:W3CDTF">2017-03-21T21:35:29Z</dcterms:modified>
  <cp:revision>112</cp:revision>
  <dc:subject/>
  <dc:title>EVROPSKE PRESTONICE KULTURE</dc:title>
</cp:coreProperties>
</file>