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9B95-E339-4E93-B65A-ACC9EB30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8EEE-374F-436E-A0B6-273D1E92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2761-8BEC-491A-9471-67CDFEA44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420D-FCDC-4497-9D4C-A76D3C26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F524-27E6-46CD-8B86-FDAB3E59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CC09-6548-48E6-BE57-DAE4F596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29B0-1616-4794-A369-0F5B9556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DAD4-D5AC-4DB4-80BC-683C3AE7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8865-830F-4559-9451-27A3FB26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ED2E-D29C-48F9-B542-1CB64892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306C-8A2F-4FE2-8238-F398C32F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54A2-AF24-423C-9A07-A94445A9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D4EA-9DFA-487C-B657-9D1AFA26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E041-856F-4C06-BF0F-A81FCAE1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873D-E581-49A3-A7AC-B6D21B28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8148-2681-4427-B343-24220071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37CF-6778-470D-8E52-822DCCB7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6537C-2EE2-4740-86DC-883816CB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9A935-669E-47C6-8868-9FB942A6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65F30-0090-41CB-AC3B-02F10306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47670-AD22-4FA9-BFD4-DC434D32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B2BC74-752D-4B88-A375-43C4D212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63AC-2E30-4BE8-8AF7-0C85456C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562006-52F8-4D3F-8893-FBAA423F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E5F196-C99B-41F2-894E-AD1A0A5F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9F4122-8C2F-4022-B729-3329A63D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32883-5BD9-44FC-80FD-E95DC874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E8883E-5C81-4B07-B592-374A9461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44254B-E450-4BE8-B8F2-71529E54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43E08-EDA5-4C19-8990-EF96204D2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A83D2-1D01-443D-BF66-28F33F91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1B36A-D21A-428D-A0DA-16E7AB0E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1F6E0-935D-429C-A538-60E2F463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5D1D-C7CC-4289-BBE8-09CF708D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FD5B5-7BB9-4A5A-9ECD-DF999450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9C48A-A4B0-4AC9-99B2-38F22FAF0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89CB7-CDC3-4DF8-BE7F-399724A3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0E597-FC31-4562-95AA-2E0DB817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B28BE-D5A9-4CA6-B49A-B0BAD0D7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4F79D-B0B0-4798-8EA3-28396F7D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8F29A-4007-4A7D-811A-FB1AD5ED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5DFAE-FDB1-41A7-9205-E7A870A1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3F29D-CDCC-4EC6-AF8D-A013FF41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46FC-4C99-45A4-BDE7-8056A50B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494C-80B1-469E-9923-1B59838E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AEA5-F3A9-429F-9942-025C5D98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A5D6-DD6A-4B9D-95AD-F1857A56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1917-F8FF-46DE-8CFC-AF5D2FC6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8F10-B322-42AE-95CD-F08D277A01F2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2465-A0AD-42B2-8FF3-50AD87A64329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0135-FC64-4A92-84BC-FC8E9462A469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459C-12B5-47B7-A18A-846F13C1B4A7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novisad2020.rs/vesti/poziv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701172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e3d2d"/>
                </a:solidFill>
                <a:latin typeface="Times New Roman"/>
              </a:rPr>
              <a:t>NOVI SAD NA PUTU </a:t>
            </a:r>
            <a:br>
              <a:rPr sz="3600"/>
            </a:br>
            <a:r>
              <a:rPr b="1" lang="sr-Latn-CS" sz="3600" spc="-1" strike="noStrike">
                <a:solidFill>
                  <a:srgbClr val="3e3d2d"/>
                </a:solidFill>
                <a:latin typeface="Times New Roman"/>
              </a:rPr>
              <a:t>KA </a:t>
            </a:r>
            <a:r>
              <a:rPr b="1" lang="en-US" sz="3600" spc="-1" strike="noStrike">
                <a:solidFill>
                  <a:srgbClr val="3e3d2d"/>
                </a:solidFill>
                <a:latin typeface="Times New Roman"/>
              </a:rPr>
              <a:t>EVROPSK</a:t>
            </a:r>
            <a:r>
              <a:rPr b="1" lang="sr-Latn-CS" sz="3600" spc="-1" strike="noStrike">
                <a:solidFill>
                  <a:srgbClr val="3e3d2d"/>
                </a:solidFill>
                <a:latin typeface="Times New Roman"/>
              </a:rPr>
              <a:t>OJ</a:t>
            </a:r>
            <a:r>
              <a:rPr b="1" lang="en-US" sz="3600" spc="-1" strike="noStrike">
                <a:solidFill>
                  <a:srgbClr val="3e3d2d"/>
                </a:solidFill>
                <a:latin typeface="Times New Roman"/>
              </a:rPr>
              <a:t> PRESTONIC</a:t>
            </a:r>
            <a:r>
              <a:rPr b="1" lang="sr-Latn-CS" sz="3600" spc="-1" strike="noStrike">
                <a:solidFill>
                  <a:srgbClr val="3e3d2d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3e3d2d"/>
                </a:solidFill>
                <a:latin typeface="Times New Roman"/>
              </a:rPr>
              <a:t> KULTURE</a:t>
            </a:r>
            <a:br>
              <a:rPr sz="3600"/>
            </a:br>
            <a:br>
              <a:rPr sz="3600"/>
            </a:br>
            <a:r>
              <a:rPr b="1" lang="sr-Latn-CS" sz="1800" spc="-1" strike="noStrike">
                <a:solidFill>
                  <a:srgbClr val="3e3d2d"/>
                </a:solidFill>
                <a:latin typeface="Times New Roman"/>
              </a:rPr>
              <a:t>dr Tatjana Pivac</a:t>
            </a:r>
            <a:br>
              <a:rPr sz="1800"/>
            </a:br>
            <a:r>
              <a:rPr b="1" lang="sr-Latn-CS" sz="1800" spc="-1" strike="noStrike">
                <a:solidFill>
                  <a:srgbClr val="3e3d2d"/>
                </a:solidFill>
                <a:latin typeface="Times New Roman"/>
              </a:rPr>
              <a:t>Departman za geografiju, turizam i hotelijerstvo, Novi Sad</a:t>
            </a:r>
            <a:endParaRPr b="0" lang="en-US" sz="1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il_fi" descr="ecoc_logo_EN"/>
          <p:cNvPicPr/>
          <p:nvPr/>
        </p:nvPicPr>
        <p:blipFill>
          <a:blip r:embed="rId1"/>
          <a:stretch/>
        </p:blipFill>
        <p:spPr>
          <a:xfrm>
            <a:off x="2050920" y="189000"/>
            <a:ext cx="4443480" cy="14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Čuvar mesta za podnožje 1"/>
          <p:cNvSpPr/>
          <p:nvPr/>
        </p:nvSpPr>
        <p:spPr>
          <a:xfrm>
            <a:off x="3995640" y="64785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28760" y="1273320"/>
            <a:ext cx="7815240" cy="3803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Čuvar mesta za podnožje 1"/>
          <p:cNvSpPr/>
          <p:nvPr/>
        </p:nvSpPr>
        <p:spPr>
          <a:xfrm>
            <a:off x="3203640" y="652320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0" y="1557360"/>
            <a:ext cx="8986680" cy="2970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Neograničeni broj tema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Razvoj IT industrij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Razvoj kulturnog turizm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Podrška amaterskom stvaralaštvu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nkluzija marginalizovanih grup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Prostori za rad umetnika….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2" name="Čuvar mesta za podnožje 3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Arial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Šta je urađeno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755280" y="1989000"/>
            <a:ext cx="70642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Organizacioni odbo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Putovanja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Pečuj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Brisel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Firenca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Pira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Maribor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igitalizacija kulturne baštine N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5" name="Čuvar mesta za podnožje 3"/>
          <p:cNvSpPr/>
          <p:nvPr/>
        </p:nvSpPr>
        <p:spPr>
          <a:xfrm>
            <a:off x="4500720" y="6492960"/>
            <a:ext cx="350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" dur="500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Čuvar mesta za podnožje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Arial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42840" y="1285920"/>
            <a:ext cx="905832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Formirane radne grup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116000" y="2133360"/>
            <a:ext cx="75708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Muzeji, galerije i arhivi (9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Nezavisni kulturni sektor (4): kuda.org, per.art…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Sektor za kreativne industrije (6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ruštveno angažovani sektor (8): EHO, Ison, NNŠ…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Omladinski sektor (7): Kancelarija za mlade, Studentski KC…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Festivali (10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Sektor za prostorni razvoj (5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Sektor za manjinsku kulturu (10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Sektor za razvoj književnosti (17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Verske zajednice (8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0" name="Čuvar mesta za podnožje 3"/>
          <p:cNvSpPr/>
          <p:nvPr/>
        </p:nvSpPr>
        <p:spPr>
          <a:xfrm>
            <a:off x="471636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Čuvar mesta za podnožje 1"/>
          <p:cNvSpPr/>
          <p:nvPr/>
        </p:nvSpPr>
        <p:spPr>
          <a:xfrm>
            <a:off x="3995640" y="6465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2" descr="http://novisad2020.rs/wp-content/uploads/2013/12/logo-300x167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268280"/>
            <a:ext cx="71229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Čuvar mesta za podnožje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Arial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Untitled-1"/>
          <p:cNvPicPr/>
          <p:nvPr/>
        </p:nvPicPr>
        <p:blipFill>
          <a:blip r:embed="rId1"/>
          <a:stretch/>
        </p:blipFill>
        <p:spPr>
          <a:xfrm>
            <a:off x="250920" y="333360"/>
            <a:ext cx="4694040" cy="29941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moj_grad"/>
          <p:cNvPicPr/>
          <p:nvPr/>
        </p:nvPicPr>
        <p:blipFill>
          <a:blip r:embed="rId2"/>
          <a:stretch/>
        </p:blipFill>
        <p:spPr>
          <a:xfrm>
            <a:off x="4211640" y="2637000"/>
            <a:ext cx="4705200" cy="3495600"/>
          </a:xfrm>
          <a:prstGeom prst="rect">
            <a:avLst/>
          </a:prstGeom>
          <a:ln w="0">
            <a:noFill/>
          </a:ln>
        </p:spPr>
      </p:pic>
      <p:sp>
        <p:nvSpPr>
          <p:cNvPr id="376" name="Pravougaonik 2"/>
          <p:cNvSpPr/>
          <p:nvPr/>
        </p:nvSpPr>
        <p:spPr>
          <a:xfrm>
            <a:off x="539640" y="3933720"/>
            <a:ext cx="34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at ’’Moj kvart’’-</a:t>
            </a:r>
            <a:r>
              <a:rPr b="0" i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svom kvartu želim da promen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Čuvar mesta za podnožje 1"/>
          <p:cNvSpPr/>
          <p:nvPr/>
        </p:nvSpPr>
        <p:spPr>
          <a:xfrm>
            <a:off x="441468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http://novisad2020.rs/wp-content/uploads/2014/03/IMG_0176.jpg"/>
          <p:cNvPicPr/>
          <p:nvPr/>
        </p:nvPicPr>
        <p:blipFill>
          <a:blip r:embed="rId1"/>
          <a:stretch/>
        </p:blipFill>
        <p:spPr>
          <a:xfrm>
            <a:off x="1187280" y="1125360"/>
            <a:ext cx="6697800" cy="446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Nakon četiri godine (2011-2015):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lnSpc>
                <a:spcPct val="10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≈</a:t>
            </a:r>
            <a:r>
              <a:rPr b="0" lang="sr-Latn-CS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0,5 miliona evra utrošenih javnih sredstava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0" name="Čuvar mesta za podnožje 3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Arial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2020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55280" y="2421000"/>
            <a:ext cx="7364520" cy="31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1" lang="sr-Latn-CS" sz="4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Hrvatska,</a:t>
            </a:r>
            <a:r>
              <a:rPr b="1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Srbija</a:t>
            </a:r>
            <a:r>
              <a:rPr b="1" lang="sr-Latn-CS" sz="4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, Irska</a:t>
            </a: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Rumunija, Grčka, Srbija </a:t>
            </a: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74a510"/>
                </a:solidFill>
                <a:latin typeface="Times New Roman"/>
                <a:ea typeface="Times New Roman"/>
              </a:rPr>
              <a:t>2021</a:t>
            </a: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9" name="Čuvar mesta za podnožje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Čuvar mesta za podnožje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Arial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6" descr="Novi Sad 2021"/>
          <p:cNvPicPr/>
          <p:nvPr/>
        </p:nvPicPr>
        <p:blipFill>
          <a:blip r:embed="rId1"/>
          <a:stretch/>
        </p:blipFill>
        <p:spPr>
          <a:xfrm>
            <a:off x="1700280" y="1844640"/>
            <a:ext cx="656100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845640" y="1125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Potrebni kriterijumi</a:t>
            </a:r>
            <a:r>
              <a:rPr b="0" lang="sr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oprinos dugotrajnoj kulturnoj strategiji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Evropska dimenzij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Kulturni i umetnički sadržaj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Mogućnost izvršenja projekta</a:t>
            </a:r>
            <a:r>
              <a:rPr b="0" lang="sr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           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Uključivanje zajednic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Menadžmen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4691160" y="3592440"/>
            <a:ext cx="44528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826560" y="1268280"/>
            <a:ext cx="69930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Bid-book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Predselekciona faza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Finalna faza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Proglašenje pobednika </a:t>
            </a:r>
            <a:r>
              <a:rPr b="0" lang="sr-C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3. </a:t>
            </a:r>
            <a:r>
              <a:rPr b="0" lang="sr-Latn-C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oktobar</a:t>
            </a:r>
            <a:r>
              <a:rPr b="0" lang="sr-C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2016. </a:t>
            </a:r>
            <a:r>
              <a:rPr b="0" lang="sr-Latn-C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godine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Monitoring faza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Melina Merkuri nagrada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6" name="Čuvar mesta za podnožje 3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Arial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826560" y="1413000"/>
            <a:ext cx="6993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Strategija se zasniva na četiri osnovna stuba: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lnSpc>
                <a:spcPct val="10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javne institucije kulture,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lnSpc>
                <a:spcPct val="10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nezavisna kulturna scena,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lnSpc>
                <a:spcPct val="10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kulturne i kreativne industrije i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lnSpc>
                <a:spcPct val="100000"/>
              </a:lnSpc>
              <a:spcBef>
                <a:spcPts val="799"/>
              </a:spcBef>
              <a:buClr>
                <a:srgbClr val="94c600"/>
              </a:buClr>
              <a:buSzPct val="76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svakodnevna kultura građana i amaterizam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8" name="Čuvar mesta za podnožje 3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Arial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755280" y="692280"/>
            <a:ext cx="7064280" cy="54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rt kvart</a:t>
            </a: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novi centar kulturne produkcije Novog Sada, istraživački centar i centar razmene znanja iz oblasti vizuelnih umetnosti, dizajna, izvođačkih umetnosti, muzike, novih medija, razvoja kompjutera i softvera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Kineska četvrt</a:t>
            </a: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sa Češkim magacinom u Novom Sadu →u Art kvart </a:t>
            </a: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očuvanj</a:t>
            </a: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industrijskog nasleđa Novog Sada, tako i stvaranja kreativnih industrija</a:t>
            </a: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Ranžirna stanica</a:t>
            </a: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uređenje partera Trga galerija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Uređenje trgov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0" name="Čuvar mesta za podnožje 3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Arial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971640" y="1268280"/>
            <a:ext cx="7129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Aplikacija predata u Brisel 22.10.2015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Miks kreativnih programa: ’’Bastion kreativnosti’’, ’’Youth Creative Polise’’, ’’Dunavski bluz’’…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7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8 miliona evra-privatan sektor (83% ukupnih sredstava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2" name="Čuvar mesta za podnožje 3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Arial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eme: vršnjačko nasilje, manjine i većine, povećana agresija, zapuštenost i propadanje objekata graditeljskog nasleđa, zagađenje, nizak nivo ekološke svesti →  moraće da sačekaju neku drugu šansu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Čuvar mesta za podnožje 3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Arial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042560" y="2323800"/>
            <a:ext cx="6777000" cy="3508200"/>
          </a:xfrm>
          <a:prstGeom prst="rect">
            <a:avLst/>
          </a:prstGeom>
          <a:ln w="0">
            <a:noFill/>
          </a:ln>
        </p:spPr>
      </p:pic>
      <p:sp>
        <p:nvSpPr>
          <p:cNvPr id="397" name="Čuvar mesta za podnožje 3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Arial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94c600"/>
              </a:buClr>
              <a:buSzPct val="76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Novčana i investiciona ulaganja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1100"/>
              </a:spcBef>
              <a:buClr>
                <a:srgbClr val="94c600"/>
              </a:buClr>
              <a:buSzPct val="76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1uloženi €→ 3 ili 7 ili 10 €</a:t>
            </a:r>
            <a:endParaRPr b="0" lang="en-US" sz="4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Značaj ostvarene titule za turizam Novog Sada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Čuvar mesta za podnožje 3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Arial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539640" y="692280"/>
          <a:ext cx="7128000" cy="5046480"/>
        </p:xfrm>
        <a:graphic>
          <a:graphicData uri="http://schemas.openxmlformats.org/drawingml/2006/table">
            <a:tbl>
              <a:tblPr/>
              <a:tblGrid>
                <a:gridCol w="841320"/>
                <a:gridCol w="941400"/>
                <a:gridCol w="1154160"/>
                <a:gridCol w="1047960"/>
                <a:gridCol w="1047600"/>
                <a:gridCol w="1047960"/>
                <a:gridCol w="1047600"/>
              </a:tblGrid>
              <a:tr h="1054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Извор прих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2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2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1054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ционална вла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2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6 7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96 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690 2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691 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84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Реги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97 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70 8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579 4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923 9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253 2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Гра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2 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127 0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421 7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712 9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792 0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358 9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8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72 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48 9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48 9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8 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51 2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1406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Привати спонзо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41 3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42 8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42 8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98 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33 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1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Остал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9 9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43 5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43 5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48 2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48 7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  <p:sp>
        <p:nvSpPr>
          <p:cNvPr id="402" name="Rectangle 5"/>
          <p:cNvSpPr/>
          <p:nvPr/>
        </p:nvSpPr>
        <p:spPr>
          <a:xfrm>
            <a:off x="784080" y="5739840"/>
            <a:ext cx="39510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ирања новчана улагања током реализације прој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вор: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novisad2021.rs/aplikacioni-formular/?jez=l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611280" y="836280"/>
            <a:ext cx="79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1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Novi Sad</a:t>
            </a:r>
            <a:endParaRPr b="0" lang="en-US" sz="4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1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Beograd</a:t>
            </a:r>
            <a:endParaRPr b="0" lang="en-US" sz="4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1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Zrenjanin</a:t>
            </a:r>
            <a:endParaRPr b="0" lang="en-US" sz="4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1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Niš</a:t>
            </a:r>
            <a:endParaRPr b="0" lang="en-US" sz="4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1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Valjevo</a:t>
            </a:r>
            <a:endParaRPr b="0" lang="en-US" sz="48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11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Subotica…</a:t>
            </a:r>
            <a:endParaRPr b="0" lang="en-US" sz="48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1" name="Čuvar mesta za podnožje 3"/>
          <p:cNvSpPr/>
          <p:nvPr/>
        </p:nvSpPr>
        <p:spPr>
          <a:xfrm>
            <a:off x="305928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514440" y="1773360"/>
          <a:ext cx="8089920" cy="4319640"/>
        </p:xfrm>
        <a:graphic>
          <a:graphicData uri="http://schemas.openxmlformats.org/drawingml/2006/table">
            <a:tbl>
              <a:tblPr/>
              <a:tblGrid>
                <a:gridCol w="1987560"/>
                <a:gridCol w="2077920"/>
                <a:gridCol w="2077920"/>
                <a:gridCol w="1946520"/>
              </a:tblGrid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od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Ukupan broj tur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omaći turi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Strani turi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0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4 5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9 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 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58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4 9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9 5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 3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0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 2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5 7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4 4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0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3 9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9 6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4 3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2 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1 8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 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6 4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3 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3 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8 7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6 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2 4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17 4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4 3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3 1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0 7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6 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4 6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58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9 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3 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6 3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0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01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4 4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7 8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6 6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Promet turista u Novom Sadu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514440" y="6093000"/>
            <a:ext cx="63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Izvor</a:t>
            </a:r>
            <a:r>
              <a:rPr b="0" i="1" lang="sr-C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1800" spc="-1" strike="noStrike">
                <a:solidFill>
                  <a:srgbClr val="000000"/>
                </a:solidFill>
                <a:latin typeface="Arial"/>
              </a:rPr>
              <a:t>http://webrzs.stat.gov.rs/WebSite/Default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3e3d2d"/>
                </a:solidFill>
                <a:uFillTx/>
                <a:latin typeface="Century Gothic"/>
              </a:rPr>
              <a:t>https://www.youtube.com/watch?v=tHGAtMZK4p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7" name="Čuvar mesta za podnožje 3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Arial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Čuvar mesta za podnožje 1"/>
          <p:cNvSpPr/>
          <p:nvPr/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c600"/>
                </a:solidFill>
                <a:latin typeface="Arial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058160" cy="39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701172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e3d2d"/>
                </a:solidFill>
                <a:latin typeface="Times New Roman"/>
              </a:rPr>
              <a:t>NOVI SAD NA PUTU </a:t>
            </a:r>
            <a:br>
              <a:rPr sz="3600"/>
            </a:br>
            <a:r>
              <a:rPr b="1" lang="sr-Latn-CS" sz="3600" spc="-1" strike="noStrike">
                <a:solidFill>
                  <a:srgbClr val="3e3d2d"/>
                </a:solidFill>
                <a:latin typeface="Times New Roman"/>
              </a:rPr>
              <a:t>KA </a:t>
            </a:r>
            <a:r>
              <a:rPr b="1" lang="en-US" sz="3600" spc="-1" strike="noStrike">
                <a:solidFill>
                  <a:srgbClr val="3e3d2d"/>
                </a:solidFill>
                <a:latin typeface="Times New Roman"/>
              </a:rPr>
              <a:t>EVROPSK</a:t>
            </a:r>
            <a:r>
              <a:rPr b="1" lang="sr-Latn-CS" sz="3600" spc="-1" strike="noStrike">
                <a:solidFill>
                  <a:srgbClr val="3e3d2d"/>
                </a:solidFill>
                <a:latin typeface="Times New Roman"/>
              </a:rPr>
              <a:t>OJ</a:t>
            </a:r>
            <a:r>
              <a:rPr b="1" lang="en-US" sz="3600" spc="-1" strike="noStrike">
                <a:solidFill>
                  <a:srgbClr val="3e3d2d"/>
                </a:solidFill>
                <a:latin typeface="Times New Roman"/>
              </a:rPr>
              <a:t> PRESTONIC</a:t>
            </a:r>
            <a:r>
              <a:rPr b="1" lang="sr-Latn-CS" sz="3600" spc="-1" strike="noStrike">
                <a:solidFill>
                  <a:srgbClr val="3e3d2d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3e3d2d"/>
                </a:solidFill>
                <a:latin typeface="Times New Roman"/>
              </a:rPr>
              <a:t> KULTURE</a:t>
            </a:r>
            <a:br>
              <a:rPr sz="3600"/>
            </a:br>
            <a:br>
              <a:rPr sz="3600"/>
            </a:br>
            <a:r>
              <a:rPr b="1" lang="sr-Latn-CS" sz="1800" spc="-1" strike="noStrike">
                <a:solidFill>
                  <a:srgbClr val="3e3d2d"/>
                </a:solidFill>
                <a:latin typeface="Times New Roman"/>
              </a:rPr>
              <a:t>dr Tatjana Pivac</a:t>
            </a:r>
            <a:br>
              <a:rPr sz="1800"/>
            </a:br>
            <a:r>
              <a:rPr b="1" lang="sr-Latn-CS" sz="1800" spc="-1" strike="noStrike">
                <a:solidFill>
                  <a:srgbClr val="3e3d2d"/>
                </a:solidFill>
                <a:latin typeface="Times New Roman"/>
              </a:rPr>
              <a:t>Departman za geografiju, turizam i hotelijerstvo, Novi Sad</a:t>
            </a:r>
            <a:endParaRPr b="0" lang="en-US" sz="1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411" name="il_fi" descr="ecoc_logo_EN"/>
          <p:cNvPicPr/>
          <p:nvPr/>
        </p:nvPicPr>
        <p:blipFill>
          <a:blip r:embed="rId1"/>
          <a:stretch/>
        </p:blipFill>
        <p:spPr>
          <a:xfrm>
            <a:off x="2050920" y="189000"/>
            <a:ext cx="4443480" cy="14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4897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Faza aplikacij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755640" y="1413000"/>
            <a:ext cx="792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BID (80 str.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 Osnovni principi </a:t>
            </a: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(15):</a:t>
            </a:r>
            <a:br>
              <a:rPr sz="2400"/>
            </a:b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Zašto grad želi da učestvuje na konkursu za EPK?</a:t>
            </a: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Koji je glavni izazov za ovu nominaciju? Koji su ciljevi grada za tu godinu?</a:t>
            </a:r>
            <a:br>
              <a:rPr sz="2400"/>
            </a:b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 Objasniti koncept programa</a:t>
            </a:r>
            <a:br>
              <a:rPr sz="2400"/>
            </a:b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 Da li se za program može sumirati u slogan?</a:t>
            </a: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Које </a:t>
            </a: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geografsko područje grad namerava da uključi u EPK? Objasniti ovaj izbor</a:t>
            </a: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 Potvrda da imate podršku lokalnih i /ili regionalnih političkih vlasti</a:t>
            </a: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Како </a:t>
            </a: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se događaj uklapa u dugoročni kulturni razvoj grada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4" name="Čuvar mesta za podnožje 3"/>
          <p:cNvSpPr/>
          <p:nvPr/>
        </p:nvSpPr>
        <p:spPr>
          <a:xfrm>
            <a:off x="4140360" y="6492960"/>
            <a:ext cx="350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684360" y="980640"/>
            <a:ext cx="7920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Century Gothic"/>
              </a:rPr>
              <a:t>- </a:t>
            </a: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Kako planirate da sarađujete sa drugim gradovima koji su se kandidovali za EPK? Kako planirate da sarađujete sa drugim gradovima u zemlji  koji su bili takođe konkurisali za EPK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 Kako grad namerava da doprinese sledećim ciljevima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Jačanje saradnje između kulturnih ustanova, umetnika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Da istakne bogatstvo kulturne raznolikosti u Evropi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Navesti kako ovaj događaj može da pomogne da se ojača veza ovog grada sa Evropom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 Da li su neki delovi programa napravljeni za određene ciljne grupe (mladi, manjine…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 </a:t>
            </a: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Na koji način je predloženi projekat inovativan?</a:t>
            </a: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Koji bi bili srednjoročni i dugoročni efekti događaja sa društvene, kulturne i urbane tačke gledišta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6" name="Čuvar mesta za podnožje 3"/>
          <p:cNvSpPr/>
          <p:nvPr/>
        </p:nvSpPr>
        <p:spPr>
          <a:xfrm>
            <a:off x="421164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042560" y="1341000"/>
            <a:ext cx="677700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I struktura programa događaja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 Tema događaja, koliko dugo traje program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Koji glavni događaji će obeležiti godinu?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-Kako grad planira da izabere projekte/događaje koji će predstavljati program za tu godinu?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II organizacija i finansije događaja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IV gradska infrastruktura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V komunikaciona strategija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VI evaluacija i monitoring događaja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VII dodatne informacije</a:t>
            </a:r>
            <a:endParaRPr b="0" lang="en-US" sz="26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8" name="Čuvar mesta za podnožje 3"/>
          <p:cNvSpPr/>
          <p:nvPr/>
        </p:nvSpPr>
        <p:spPr>
          <a:xfrm>
            <a:off x="4284720" y="6465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Čuvar mesta za podnožje 1"/>
          <p:cNvSpPr/>
          <p:nvPr/>
        </p:nvSpPr>
        <p:spPr>
          <a:xfrm>
            <a:off x="4356000" y="64929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379000" cy="29257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"/>
          <p:cNvPicPr/>
          <p:nvPr/>
        </p:nvPicPr>
        <p:blipFill>
          <a:blip r:embed="rId2"/>
          <a:stretch/>
        </p:blipFill>
        <p:spPr>
          <a:xfrm>
            <a:off x="1403280" y="4046400"/>
            <a:ext cx="6264360" cy="222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Čuvar mesta za podnožje 1"/>
          <p:cNvSpPr/>
          <p:nvPr/>
        </p:nvSpPr>
        <p:spPr>
          <a:xfrm>
            <a:off x="4284720" y="6478560"/>
            <a:ext cx="350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0" y="2205000"/>
            <a:ext cx="9109080" cy="2409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Čuvar mesta za podnožje 1"/>
          <p:cNvSpPr/>
          <p:nvPr/>
        </p:nvSpPr>
        <p:spPr>
          <a:xfrm>
            <a:off x="3419640" y="6523200"/>
            <a:ext cx="350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e3d2d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611280" y="1487520"/>
            <a:ext cx="7954920" cy="3741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0:21:50Z</dcterms:created>
  <dc:creator>Pivac</dc:creator>
  <dc:description/>
  <dc:language>en-US</dc:language>
  <cp:lastModifiedBy>Tatjana</cp:lastModifiedBy>
  <dcterms:modified xsi:type="dcterms:W3CDTF">2017-04-11T22:13:56Z</dcterms:modified>
  <cp:revision>106</cp:revision>
  <dc:subject/>
  <dc:title>EVROPSKE PRESTONICE KULTURE</dc:title>
</cp:coreProperties>
</file>